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40047"/>
        <c:axId val="94298633"/>
      </c:barChart>
      <c:catAx>
        <c:axId val="69240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98633"/>
        <c:crosses val="autoZero"/>
        <c:auto val="1"/>
        <c:lblAlgn val="ctr"/>
        <c:lblOffset val="100"/>
        <c:noMultiLvlLbl val="0"/>
      </c:catAx>
      <c:valAx>
        <c:axId val="94298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0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2E0-72E5-46D7-9F83-A43BC497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D33-5C86-4833-95C0-FC7178D7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5ED-A9F7-4A51-81CF-48438D2F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4E3-B926-4A22-9FFD-F33A68C7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86C-9837-41E6-ADB9-A6FAE124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B0F-FE7B-44A6-972E-85291F16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D0A-B897-4350-9402-8F70A847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41F-11B4-4982-B5BB-B358638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3B7-458A-494F-B436-FBEEF442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B1A-548A-4CE7-BCE3-5E81649C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487-08BF-438B-B022-D59B33DF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A1E-61A5-4E55-8041-1D1B3E5F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8FDE3-6C86-43A8-8931-A4AF957641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