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70378"/>
        <c:axId val="29867660"/>
      </c:barChart>
      <c:catAx>
        <c:axId val="45570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67660"/>
        <c:crosses val="autoZero"/>
        <c:auto val="1"/>
        <c:lblAlgn val="ctr"/>
        <c:lblOffset val="100"/>
        <c:noMultiLvlLbl val="0"/>
      </c:catAx>
      <c:valAx>
        <c:axId val="29867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70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D43-DCE5-4117-82D0-48937C65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4D2-A37A-4D43-A17C-B05D2783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A87-E283-44B7-8DB9-2472C4EC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202-9226-4946-B81A-FCEBEE20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6FE-7915-4A0F-BA30-7AFCEBE9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866-84D0-455B-8067-3626DC51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FC6-73EB-49D2-8005-7E8C8F40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62B-D5B1-4A8F-91FF-F927D804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96C-5C82-4E9F-B293-BC4EF64B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AF0-18DD-448D-B740-A41168A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D38-7AB8-4B02-AC18-2E26012D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16E-0B31-4B0E-8AE0-82BCBE06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C38FC-276B-437E-94F4-DF22F3947C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