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10756"/>
        <c:axId val="86356769"/>
      </c:barChart>
      <c:catAx>
        <c:axId val="35910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56769"/>
        <c:crosses val="autoZero"/>
        <c:auto val="1"/>
        <c:lblAlgn val="ctr"/>
        <c:lblOffset val="100"/>
        <c:noMultiLvlLbl val="0"/>
      </c:catAx>
      <c:valAx>
        <c:axId val="86356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10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CC1-BB07-4A27-A210-3B83E804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B6F-61B6-4A91-B7DE-F2812868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A06-6697-45ED-B6C6-91BF6A3D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121-5A1D-44D2-A490-B6E9CA5D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ED9-49E4-4C55-B252-4CDD2559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5BD-8916-434E-BB9A-BDF15B8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B66-73CC-4C07-8812-B3D30CE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B25-F6C2-451D-9113-28C4041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CD3-31BB-4CE9-83F5-4590839F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37D-BC60-426B-8AA6-695496B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46E-6DCE-4D36-AAF2-6CCD848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169-16FF-4C8C-B1C7-27A3E2E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FF084-B067-425B-91E4-91369A48DF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