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16944"/>
        <c:axId val="30264889"/>
      </c:barChart>
      <c:catAx>
        <c:axId val="27216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4889"/>
        <c:crosses val="autoZero"/>
        <c:auto val="1"/>
        <c:lblAlgn val="ctr"/>
        <c:lblOffset val="100"/>
        <c:noMultiLvlLbl val="0"/>
      </c:catAx>
      <c:valAx>
        <c:axId val="30264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16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817-6820-45DF-9589-3D654147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13D-6C73-434E-8D1F-CC879E2B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A1B-C3D0-4F99-AE28-C3F540A9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D8E-21A8-4D82-AAE6-DEB5CAA0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034-3923-4F3C-999A-86796BA7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71E-7C9A-4966-94B7-FEE2B47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025-23D3-450D-811E-E14207E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2B9-5C40-4802-B44F-14D45C18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8C0-1879-4955-8310-E46A1330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07C-45EC-4B31-84BD-F516D54C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5E5-6DDF-40E1-A4AD-79FF588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A91-9C1E-4476-B920-6474D48C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2C4CE-84F2-43DF-BA96-D4B75CC65C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