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14059"/>
        <c:axId val="19840335"/>
      </c:barChart>
      <c:catAx>
        <c:axId val="39114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40335"/>
        <c:crosses val="autoZero"/>
        <c:auto val="1"/>
        <c:lblAlgn val="ctr"/>
        <c:lblOffset val="100"/>
        <c:noMultiLvlLbl val="0"/>
      </c:catAx>
      <c:valAx>
        <c:axId val="19840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14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2EB-9B55-4A78-944F-E7A33785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233-99F8-4D6B-9966-4565FD06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574-BA19-4D74-8A34-CE145C6A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F7F-D0EB-486B-B0F4-C4EA0DA3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25B-AEBC-4A4E-A194-B8BDF2F7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B0F-AE70-48CC-A395-36FA41B9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0BB-2963-4B03-A3A5-6A0CE13B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C96-CE50-4497-9CF1-4E82ABB4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78E-D435-4600-B9DB-C80B1EDD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F7A-E58F-4A3B-B048-FBD1EBBA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0B8-D510-416A-BB60-5D322FD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85D-9DBF-494F-AC30-33952DF7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2CEAB-8D2D-4BA0-B62B-FE2653ADCC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