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73011"/>
        <c:axId val="61742861"/>
      </c:barChart>
      <c:catAx>
        <c:axId val="19073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42861"/>
        <c:crosses val="autoZero"/>
        <c:auto val="1"/>
        <c:lblAlgn val="ctr"/>
        <c:lblOffset val="100"/>
        <c:noMultiLvlLbl val="0"/>
      </c:catAx>
      <c:valAx>
        <c:axId val="61742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73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A89-F0B5-433A-BBAF-B068607F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B0B-2304-4342-AA23-FAB3FD42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C0D-94BB-44B1-8C01-93C19773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40B-1C8B-4A1A-85EE-87E3DE33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B35-80F1-41A0-AF21-C6202C1B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CB3-4CFD-43E8-AA60-900EE272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DBB-E56D-4BF9-AEB7-572C4D8E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612-8150-4CCD-9186-18107478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BDE-F176-4796-B323-4ABB003B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18A5-8EE0-4D0D-AB2E-D52CEE2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338-E41B-4610-A0F9-6775F21E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CAB-3654-43CD-A4DA-601DBAD5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71A34-B470-42E3-AFC8-E33D1F74BC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