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46333"/>
        <c:axId val="98794217"/>
      </c:barChart>
      <c:catAx>
        <c:axId val="464463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94217"/>
        <c:crosses val="autoZero"/>
        <c:auto val="1"/>
        <c:lblAlgn val="ctr"/>
        <c:lblOffset val="100"/>
        <c:noMultiLvlLbl val="0"/>
      </c:catAx>
      <c:valAx>
        <c:axId val="987942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463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851B-4965-4141-981F-163C35EE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89E-8B59-4164-81C8-B25C524C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C9A8-308F-4598-BCFA-7B773A29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C3B-07A4-4432-9B64-F5E496AD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0F8F-2D89-423F-8946-52BFEC51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F926-F9D8-4686-AE2B-C6EA9386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469-F582-4A08-AD77-5F584470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44A2-31EC-48E9-9F8B-F9CC84A2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3DD-88B7-4E65-A69D-8D857F80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C1D0-FFF5-4DAB-B983-26488643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777-CA1F-4E6F-B6C8-1A186136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FE6-2AFD-442A-8C93-15D6B544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A21BC-1E31-4AF6-99C4-0058408CDA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