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42915"/>
        <c:axId val="45998733"/>
      </c:barChart>
      <c:catAx>
        <c:axId val="80342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98733"/>
        <c:crosses val="autoZero"/>
        <c:auto val="1"/>
        <c:lblAlgn val="ctr"/>
        <c:lblOffset val="100"/>
        <c:noMultiLvlLbl val="0"/>
      </c:catAx>
      <c:valAx>
        <c:axId val="45998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42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514-C05D-4A46-ADF2-96DA5DB9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B34-5BD8-4DC3-96EA-7502C410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9E0-DFE8-4969-BA96-2542D88A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233-B9C8-4801-BB4A-18DD10AB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5B7-E4FF-49E9-BC32-428A8D21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F73-DEEA-46AF-B163-1CA56F1C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999-1151-4D86-A674-F454FCDF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3F4-2182-4841-A2FD-AA9A0156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FBC-03A9-4C37-A28F-1DAABFE3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B01-8C13-4378-99DB-7F72B424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E81-04FF-4360-933D-5B02791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B6C-D3D6-4AEE-844A-BDD1D88E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F5D76-AEFF-497F-A769-46693813C4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