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19144"/>
        <c:axId val="37144147"/>
      </c:barChart>
      <c:catAx>
        <c:axId val="92519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4147"/>
        <c:crosses val="autoZero"/>
        <c:auto val="1"/>
        <c:lblAlgn val="ctr"/>
        <c:lblOffset val="100"/>
        <c:noMultiLvlLbl val="0"/>
      </c:catAx>
      <c:valAx>
        <c:axId val="37144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19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448-DEAA-4A12-980E-57CD5C6D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69C-2EE9-404D-9ED1-7EFCA31A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836-A770-4FBA-A785-53DEF714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D5D-8252-4803-8AA4-9DA4B1F8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F92-9ED6-4F0F-B691-4D51D2E1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A1B-F6CC-4D21-B3D4-8DE2A3C5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B71-0E19-4D47-8790-B77883E3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E64-C7F1-4898-B8AC-3FC80793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900-1287-4BE4-B7F9-06FBAE41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9F8-E5DC-47EB-99C5-AD4EDF1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9C0-3A88-4554-B22D-7D301E4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46E-B70A-475D-A8C0-BBCC33CB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6115F-7CD6-47DD-A48C-229D13F1EA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