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971"/>
        <c:axId val="59271409"/>
      </c:barChart>
      <c:catAx>
        <c:axId val="621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1409"/>
        <c:crosses val="autoZero"/>
        <c:auto val="1"/>
        <c:lblAlgn val="ctr"/>
        <c:lblOffset val="100"/>
        <c:noMultiLvlLbl val="0"/>
      </c:catAx>
      <c:valAx>
        <c:axId val="59271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E7F-08AA-4AF3-ABE8-142A75CA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375-B082-46FA-A6F3-9237D273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04A-F05E-4610-8418-2183D816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74B-EE75-4FD2-B8FC-EF583216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1D7-6D2C-41FD-8772-A165F0B0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2DF-2995-42C3-99A4-99A73A6C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603-FC0D-45B3-A8D2-7EAAA34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B9-BAC1-4D7D-9FD2-B3518C9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292-52EF-450B-AE67-CCE535A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EB5-DB0A-4118-BE9F-2104C10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231-95D0-4AB7-A1F7-6E7C83C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63C-0153-4E70-863D-99C35E1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5896-07CB-4BD0-8B34-AC61E62AFB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