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921540"/>
        <c:axId val="16568878"/>
      </c:barChart>
      <c:catAx>
        <c:axId val="389215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68878"/>
        <c:crosses val="autoZero"/>
        <c:auto val="1"/>
        <c:lblAlgn val="ctr"/>
        <c:lblOffset val="100"/>
        <c:noMultiLvlLbl val="0"/>
      </c:catAx>
      <c:valAx>
        <c:axId val="165688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215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43D-A328-49B7-B2B2-2B71E065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CD41-7BB1-4340-8004-75AA414D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91BF-B586-4809-A9C2-58D5A010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2458-4E69-4E24-97F5-C96708A9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878-8FDA-4A09-B40D-5F579F56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4410-9F9B-4CE7-A446-480B9A38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A93-7C70-440F-BA00-87C7CADE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1ED8-6B21-4C66-9ADE-067EA074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7BDF-025B-459F-BDB8-7C2F4C97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BF64-4365-4E6D-BB94-CDAB6125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5E1-C652-410A-BFBD-B7D199F7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BCAE-5628-4D72-B50E-DD5B5E28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40EE6-890E-4C16-BAB2-EB69D77CF6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