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91352"/>
        <c:axId val="39487569"/>
      </c:barChart>
      <c:catAx>
        <c:axId val="23491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87569"/>
        <c:crosses val="autoZero"/>
        <c:auto val="1"/>
        <c:lblAlgn val="ctr"/>
        <c:lblOffset val="100"/>
        <c:noMultiLvlLbl val="0"/>
      </c:catAx>
      <c:valAx>
        <c:axId val="39487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91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AEB-0D1F-4F6C-8621-2BB42D69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492-DD7A-4861-B2E1-09A436E5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B38-E441-428C-A283-0DCA3F33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9B4-FAB8-4C7F-B273-5AFAA934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360-BC4B-4D8C-A9F5-F9220832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3E4-68C7-4F0A-B0AE-43C4E2FF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334-974B-4F04-B18B-264374D6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01B-8991-4DED-996A-4039A6F1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A97-592D-412C-AE41-EEC0B9B5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B4E-AA74-473E-9247-EF2D44B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57F-A0BE-42D1-9DBD-72018B3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5F0-D5C2-4256-8EE9-EA80A84D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2ECFC-3EBD-45AC-ABBA-804272539A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