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54762"/>
        <c:axId val="66418487"/>
      </c:barChart>
      <c:catAx>
        <c:axId val="96154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18487"/>
        <c:crosses val="autoZero"/>
        <c:auto val="1"/>
        <c:lblAlgn val="ctr"/>
        <c:lblOffset val="100"/>
        <c:noMultiLvlLbl val="0"/>
      </c:catAx>
      <c:valAx>
        <c:axId val="66418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54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1D3-C90E-40AC-B142-A4442A52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82F-3B60-494F-8A57-C9AFE8DB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B7B-D219-4DD1-8D99-A8DD88BF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6C2-96CF-484E-B5CB-F7696427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033-858E-48B1-8FD9-9C63F16B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4F7-3A82-4AA9-A8A0-9B187297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AE4-57A9-4622-B96C-7118A96F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969-7E9C-47D1-A662-9123FB70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9D1-19E8-4D18-9039-610239A0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ADA-60EC-43D9-BEAC-803C221B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3B7-7EFB-4CB5-88F8-42B8939B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028-0F61-4D4F-9FE9-BB1C17F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695A2-C20B-49FB-AABB-677974C54D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