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61413"/>
        <c:axId val="75364955"/>
      </c:barChart>
      <c:catAx>
        <c:axId val="98361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64955"/>
        <c:crosses val="autoZero"/>
        <c:auto val="1"/>
        <c:lblAlgn val="ctr"/>
        <c:lblOffset val="100"/>
        <c:noMultiLvlLbl val="0"/>
      </c:catAx>
      <c:valAx>
        <c:axId val="75364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61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7B9-F24F-4268-B87D-A6D103DC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6D1-C872-438D-A95C-1106EA3B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6CC-82BD-4D8E-9C23-48A5D9CD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74E-1357-4857-A7DF-E53A9526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0F2-6450-4F9C-A828-91071705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4E1-602F-4300-945A-C1422E32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29F-97C1-4ACC-A23B-96A156AD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055-064B-4A76-A745-F21F64BD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105-5089-4575-BB6B-6605713A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420-5C83-48E9-9FDF-3729B87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3D9-87B5-4BB1-BA04-7ABB1BD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2CE-8BB9-41AB-87AE-8EF7C216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F6368-C21A-48E5-B686-405327E3CF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