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126373"/>
        <c:axId val="39476474"/>
      </c:barChart>
      <c:catAx>
        <c:axId val="111263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76474"/>
        <c:crosses val="autoZero"/>
        <c:auto val="1"/>
        <c:lblAlgn val="ctr"/>
        <c:lblOffset val="100"/>
        <c:noMultiLvlLbl val="0"/>
      </c:catAx>
      <c:valAx>
        <c:axId val="394764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263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BE34-E445-413E-A012-0459385D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F386-CD2A-4A34-98BA-C5454D06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D2E8-E48B-499C-80A3-D9803D61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BDEE-829D-4581-A81F-89BA29490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0582-CFAC-45DF-9712-922B0FDB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4F6E-5365-453C-B0C0-B036D8AE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7443-0359-46A9-8051-5FE38154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B2D8-08FC-494C-A1B3-F3E0D624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EC31-B2FD-48E8-96E7-2C2518DC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1270-C154-45E8-896B-DBB07C84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1555-8243-453F-9EE5-D27329E5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841C-B276-4398-8948-675C008C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6050F-DB1A-4F6E-93A0-E2FDA85E8A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