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720618"/>
        <c:axId val="61259076"/>
      </c:barChart>
      <c:catAx>
        <c:axId val="75720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59076"/>
        <c:crosses val="autoZero"/>
        <c:auto val="1"/>
        <c:lblAlgn val="ctr"/>
        <c:lblOffset val="100"/>
        <c:noMultiLvlLbl val="0"/>
      </c:catAx>
      <c:valAx>
        <c:axId val="612590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720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0E0E-5C0C-4B7D-988C-3AC53082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99DB-3C31-4795-9901-30F377BA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5882-91F6-4D52-94FF-F2160DEE0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757-8459-4843-BE6A-62E835F7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CC35-49C6-4392-BB62-7025C7D1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EFC-A704-49B3-964C-2CFFAAD5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4A37-517C-4E55-91BD-2E61A7FC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149A-329A-47DF-AF60-B7D34CAF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795E-D430-4741-9E0C-C832AE563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3FCB-3C48-4452-9364-21EDBE24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B6CC-04E4-464E-AA34-6E0559E0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088-7937-4C83-979B-C800D94D2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202B3-E979-44A1-953C-4EAA532E49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