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24319"/>
        <c:axId val="5143678"/>
      </c:barChart>
      <c:catAx>
        <c:axId val="58824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3678"/>
        <c:crosses val="autoZero"/>
        <c:auto val="1"/>
        <c:lblAlgn val="ctr"/>
        <c:lblOffset val="100"/>
        <c:noMultiLvlLbl val="0"/>
      </c:catAx>
      <c:valAx>
        <c:axId val="5143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4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0D5-E5A5-4C4C-AF5C-D91FE898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135-AB25-444A-A3A7-D401CC6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ACD-631E-4DC2-893F-C4D91EBD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BB0-7B0F-46CE-880A-D0118F45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F78-6202-4874-8B04-420597C6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6C4-771A-4567-80AC-58B11807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53C-2670-4B73-96F2-9D72FFB5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362-087A-4432-9D59-9DA3249A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B8F-A199-4FF4-BCDC-395A9D84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EFF-4FB8-4E82-9070-3C94FEC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0CD-980E-4F11-8329-145455D4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BDE-05C0-4929-9DA4-6BF1AF14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7C768-FCB0-4B9D-922B-9ECE9E1F24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