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89587"/>
        <c:axId val="65418816"/>
      </c:barChart>
      <c:catAx>
        <c:axId val="17289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18816"/>
        <c:crosses val="autoZero"/>
        <c:auto val="1"/>
        <c:lblAlgn val="ctr"/>
        <c:lblOffset val="100"/>
        <c:noMultiLvlLbl val="0"/>
      </c:catAx>
      <c:valAx>
        <c:axId val="65418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89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53A-FBFD-427A-ACF3-5AF5CA7F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D14-E9D9-4C57-BA15-677C7B68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DC2-0F2D-4342-9E55-E04AC918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AD3-A8C2-4877-A80F-3006F630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FA6-E7B2-4505-9CA1-B969D329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BBC-578D-4213-9FE7-CEC0502B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39B-C061-4B3F-A7F3-BCB16101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B15-85CD-495C-A4BA-467289BE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65D-5128-4B80-852F-E1966FA9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BB4-9855-4FDE-8B0C-F50CAB60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95E-D0E0-4358-9FFD-4C5BE955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39E-E7AE-46A0-B0B6-F11716DE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9C998-120C-45D8-901D-9DD3A3927F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