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33583"/>
        <c:axId val="52055344"/>
      </c:barChart>
      <c:catAx>
        <c:axId val="33533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55344"/>
        <c:crosses val="autoZero"/>
        <c:auto val="1"/>
        <c:lblAlgn val="ctr"/>
        <c:lblOffset val="100"/>
        <c:noMultiLvlLbl val="0"/>
      </c:catAx>
      <c:valAx>
        <c:axId val="52055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33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73F-68AC-45D9-86DF-F44769F5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555-498C-4ADC-9202-0AC6F61C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C79-DDBA-4079-87A8-308D69AB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B2B-576E-463E-9BFA-354C7225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9DC-15F7-421D-A387-74A06EFD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8BB-8242-4203-8C67-84AF3662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F99-D1EC-4767-87B4-37566667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F9E-3718-4D6A-B216-7029279C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A19-670C-4320-8AAC-88DC5FA1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D91-6566-45BA-B43C-63069352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C60-310C-4D76-AE84-6A7A0F90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8C4-D5C0-4841-8908-0B54BDDC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1B020-B04B-406F-BF60-FF3C3E2267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