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63918"/>
        <c:axId val="17805067"/>
      </c:barChart>
      <c:catAx>
        <c:axId val="27963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05067"/>
        <c:crosses val="autoZero"/>
        <c:auto val="1"/>
        <c:lblAlgn val="ctr"/>
        <c:lblOffset val="100"/>
        <c:noMultiLvlLbl val="0"/>
      </c:catAx>
      <c:valAx>
        <c:axId val="17805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3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65F-25CB-435C-ACEE-FC558F38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1C9-518F-4B1F-A31C-566202EB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DB8-6EEF-4AFB-9D57-5EE8DD49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2EA-1DE7-499A-9D26-6859BF58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35C-4D1F-4445-A501-CCDC6C65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903-8125-4F59-9EA8-2A5B53E4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315-E2AD-4E45-B27C-16401AA8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CFB-A5AC-433C-8777-88EF8DA2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EAF-9EFE-4406-8686-3835AEDE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0CC-CD55-499B-BA53-6EF97ECA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776-AB7F-47C9-96E0-67794DB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845-A825-47B6-BB9F-A7F19140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51EEC-1CAB-4D1C-B509-E4632836EE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