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34200"/>
        <c:axId val="37880726"/>
      </c:barChart>
      <c:catAx>
        <c:axId val="74634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80726"/>
        <c:crosses val="autoZero"/>
        <c:auto val="1"/>
        <c:lblAlgn val="ctr"/>
        <c:lblOffset val="100"/>
        <c:noMultiLvlLbl val="0"/>
      </c:catAx>
      <c:valAx>
        <c:axId val="37880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34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EA1-CBDA-44B2-BF0D-1704FA5C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F82-4CE9-44F5-8E56-011DCD29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3D5-0E37-4BDA-8C1C-C0012D8C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08E-9CD3-49BA-88EB-42D98713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D32-7719-44B9-AAF5-3A015FEE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4FD-643B-4170-BD0F-AA17A1C9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5CE-92AB-45F6-B2AB-EDA03B02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576-F61B-44A5-95C3-5EC5AD36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064-C9BA-4F05-847A-12A3E52E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6D3-9E1B-46ED-A034-83710696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F10-1623-4589-B783-C4F804B9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2C9-EF1D-457E-ADDD-30D01A86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9F49B-56D6-47C7-AC3D-146F1BF0F1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