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4511"/>
        <c:axId val="47565296"/>
      </c:barChart>
      <c:catAx>
        <c:axId val="6374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65296"/>
        <c:crosses val="autoZero"/>
        <c:auto val="1"/>
        <c:lblAlgn val="ctr"/>
        <c:lblOffset val="100"/>
        <c:noMultiLvlLbl val="0"/>
      </c:catAx>
      <c:valAx>
        <c:axId val="47565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4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1AB-95DE-426B-B4CE-A2A08704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851-609E-4B61-BE08-D62B6BF6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AD5-92B3-4D9A-A78A-F5AA840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92F-4543-4095-8990-9C87FF64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4C3-0B35-4BF5-A476-352D964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547-E66A-43EB-A4DE-7689C0C3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855-8837-4642-86BC-B6E6CDFF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2E6-3DEA-4427-A7DC-58BC4AD0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731-C075-403F-A2B3-C3F8C486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324-52CE-4B84-977E-BBE52E8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D72-8975-40DC-AD61-442D438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505-5C5C-4C32-8A41-A511997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F0EC6-E863-4B88-A536-23CE99D557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