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69223"/>
        <c:axId val="37890971"/>
      </c:barChart>
      <c:catAx>
        <c:axId val="26369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90971"/>
        <c:crosses val="autoZero"/>
        <c:auto val="1"/>
        <c:lblAlgn val="ctr"/>
        <c:lblOffset val="100"/>
        <c:noMultiLvlLbl val="0"/>
      </c:catAx>
      <c:valAx>
        <c:axId val="37890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69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9C6-4230-45A4-883C-4719BE68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AE5-219E-4E58-968E-23A72DB6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1FD-29F9-4657-AFDD-427D75C4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9D1-88DF-4288-BC16-CB236DF9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411-1CD6-4E4A-B19B-72441BA4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0C7-93A2-426D-99DF-228D103D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D87-8EDB-4565-97C1-70AAE536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157-9CFD-4AAD-B655-AB7F31F9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51C-05E7-4B8E-B25E-3BE2CB52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6C2-7B8D-4691-BC09-6E0F084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3EE-2BEC-4AF1-BE6B-274C5632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298-C7DD-42C9-A5E1-5FDB3DD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3B59F-4CFD-4755-9747-958211EDA7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