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138956"/>
        <c:axId val="9443303"/>
      </c:barChart>
      <c:catAx>
        <c:axId val="721389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43303"/>
        <c:crosses val="autoZero"/>
        <c:auto val="1"/>
        <c:lblAlgn val="ctr"/>
        <c:lblOffset val="100"/>
        <c:noMultiLvlLbl val="0"/>
      </c:catAx>
      <c:valAx>
        <c:axId val="94433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1389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845C-9383-45CD-A7FB-8F60B60BE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D900-3AE3-4B05-A629-7B8CCB6FD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3ED2-83E5-4CE8-B450-76A59B0CE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2ACA-A33E-401F-B0E0-51EF914CF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F264-7583-4E7B-8233-2459066E3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342E-91AD-45B4-899D-D7C329161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30B5-3788-40D9-9556-FFC5A00A0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F8E4-A04C-4C8C-9067-78BD140EF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6348-1045-45F1-951F-AB92168C4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88BB-3A47-48D1-B2DB-EF1086600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6D67-B484-4E20-BD89-DE69FAB7E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6AA8-DEB4-4C76-84A5-D8433D377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4ABD7D-4F78-4000-A1B2-D091C6CAFF7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