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51631"/>
        <c:axId val="48209824"/>
      </c:barChart>
      <c:catAx>
        <c:axId val="75251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09824"/>
        <c:crosses val="autoZero"/>
        <c:auto val="1"/>
        <c:lblAlgn val="ctr"/>
        <c:lblOffset val="100"/>
        <c:noMultiLvlLbl val="0"/>
      </c:catAx>
      <c:valAx>
        <c:axId val="48209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1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FA6-93F4-4B91-8320-DD1E2E74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026-6DF6-473E-9F48-CEA112B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58A-8D27-4DF2-9ED9-2446E498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822-2CCC-44A5-ACD1-C63F3574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B43-1502-4E21-B5F1-4F36ECF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391-DC97-4FE9-A1CF-4B6A4EC2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B55-0700-4756-AE03-BCECBDBE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1E7-FC96-4396-9600-66011262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D61-7BA8-4D2C-90AB-9F9FAF3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03C-3F37-4895-9999-A7A2E79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C97-066F-48FB-9EB4-109E097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923-EE25-4563-945B-F9551E3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F5FB-1BF9-4208-9806-73161E9C11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