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81215"/>
        <c:axId val="36300375"/>
      </c:barChart>
      <c:catAx>
        <c:axId val="17281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00375"/>
        <c:crosses val="autoZero"/>
        <c:auto val="1"/>
        <c:lblAlgn val="ctr"/>
        <c:lblOffset val="100"/>
        <c:noMultiLvlLbl val="0"/>
      </c:catAx>
      <c:valAx>
        <c:axId val="36300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1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A89-1642-428E-B9F4-8C70A8FA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3A7-F51B-4561-B6A2-099D5B0E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43D-7EEF-4E8C-B1CC-A5975BC0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6C1-AF7B-4E71-B71B-F1FDA9B7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3D5-7CD0-4043-8699-EB176D1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AED-2B73-46A5-98F3-6F3FDAD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631-DE68-4626-A16A-06A866A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8C4-B713-4EF7-8B42-2BF60F3E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7E7-FC76-4775-8AB9-F300EA1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7B7-8220-4FA2-B9A9-1A7A7AD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385-1EB1-4521-B3FF-DE42033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68D-0132-4140-8B13-47E52FA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90179-8083-4D40-B9C1-A6CC3B452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