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19361"/>
        <c:axId val="75963035"/>
      </c:barChart>
      <c:catAx>
        <c:axId val="11119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63035"/>
        <c:crosses val="autoZero"/>
        <c:auto val="1"/>
        <c:lblAlgn val="ctr"/>
        <c:lblOffset val="100"/>
        <c:noMultiLvlLbl val="0"/>
      </c:catAx>
      <c:valAx>
        <c:axId val="75963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19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34C-0041-416E-953D-DDB68039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6BD-05F0-4A4D-8B3B-63DF156E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4FD-7A4F-4769-9F85-C14F4192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982-39E0-4167-9EBE-6F678CBE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A9A-CBF8-4A9D-8034-FCB380B6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419-5A34-4F40-B536-864396C2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246-38F3-4BBE-AEFF-F9768ED1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D6A-E11C-42A4-8C96-0C0EC13B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203-626C-4224-A37B-61088EFD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016-79F2-4D5C-AFEF-B92C8CD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C5E-519B-4DA7-82F8-C6252A6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A0B-95DB-4489-9459-A43E4FE0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0364F-499E-4981-9A92-B316A06423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