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96407"/>
        <c:axId val="63465326"/>
      </c:barChart>
      <c:catAx>
        <c:axId val="41996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65326"/>
        <c:crosses val="autoZero"/>
        <c:auto val="1"/>
        <c:lblAlgn val="ctr"/>
        <c:lblOffset val="100"/>
        <c:noMultiLvlLbl val="0"/>
      </c:catAx>
      <c:valAx>
        <c:axId val="63465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6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375-4C76-4F35-A9B2-CF78C326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D51-7368-428F-9FE9-7323F45B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CD7-80D0-4B2D-AFE6-D7223E0A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A73-8684-429F-947A-D4C50635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0D4-311D-4E4C-BD8F-7D330B76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97E-CC21-44C0-866C-3F06EB0B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1CA-2011-49A6-BF45-EF2F8FD0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011-3224-4673-ABF8-D7F65C1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A5F-25D9-4D0E-AF17-26CD2B8E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72B-4213-4E8C-90F8-D9A4168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433-0807-4235-8CA8-7469BDA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38C-2B7E-4C01-A894-06A8EF8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21E19-9BE2-42F7-9B2E-CAC8A29C8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