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083227"/>
        <c:axId val="87241663"/>
      </c:barChart>
      <c:catAx>
        <c:axId val="200832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41663"/>
        <c:crosses val="autoZero"/>
        <c:auto val="1"/>
        <c:lblAlgn val="ctr"/>
        <c:lblOffset val="100"/>
        <c:noMultiLvlLbl val="0"/>
      </c:catAx>
      <c:valAx>
        <c:axId val="872416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832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8C66-840B-4DA2-992B-328DC391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8737-615C-498F-A909-29125086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72B0-A316-4F92-8C37-26CB5FC0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E1B2-FEBD-42B8-8208-6638DAEF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8E30-E77E-4CB1-890E-187AF91F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6925-61EB-4924-9614-B35C7F3A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A64A-9048-4A39-A65C-F315C9DA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8D4F-71E2-4788-93AE-79880B9A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D36D-CE1C-44D0-B62A-0A05D585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6B66-4067-46F3-B728-A6ED1F2A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1DE9-FE4A-47CA-A1E6-64907C24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B486-F6D8-4F2F-AC23-8A54D86D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E7D3B-A62F-43D5-9205-F6C4E40906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