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56269"/>
        <c:axId val="46246484"/>
      </c:barChart>
      <c:catAx>
        <c:axId val="85656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46484"/>
        <c:crosses val="autoZero"/>
        <c:auto val="1"/>
        <c:lblAlgn val="ctr"/>
        <c:lblOffset val="100"/>
        <c:noMultiLvlLbl val="0"/>
      </c:catAx>
      <c:valAx>
        <c:axId val="46246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56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4CE-C1DA-4243-BE60-B459891B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4E32-2DCC-4F8B-AB7B-7BDD657B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B72F-3E4E-457A-81A0-E688214A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3EA-BA59-4F9D-8FA7-CA788C90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4C2-E4EA-4A3E-9A70-7B807D7A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A9D-B9EC-411D-B975-F9BF87C1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4BE-5044-44D7-8F27-9E8E862A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AAA-FD2B-42E9-9D04-0B53503A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F72-B604-48B3-9F51-8A09E789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2AD-3CD5-48F6-B612-435220B8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4D3-508F-4CD5-BCAC-DB9871BC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6EE-D1E5-410F-89B4-C9EF111D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E3858-AE91-4824-8D2A-5C7709E9B5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