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79004"/>
        <c:axId val="92359671"/>
      </c:barChart>
      <c:catAx>
        <c:axId val="13579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59671"/>
        <c:crosses val="autoZero"/>
        <c:auto val="1"/>
        <c:lblAlgn val="ctr"/>
        <c:lblOffset val="100"/>
        <c:noMultiLvlLbl val="0"/>
      </c:catAx>
      <c:valAx>
        <c:axId val="92359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79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AE3-071C-4A5D-BD94-9B5A946E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737-A68C-4E44-8290-236051E3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278-B2C3-42FE-9619-72EC4813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041-1BA0-475B-91C8-9D80EDE2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634-B24F-4229-A781-8809563F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47F-6C0A-46C0-B262-3078FE0D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A7E-7ED8-4B13-987E-83D17989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181-DFFF-486B-B425-D376E4C3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02E-DAB2-48ED-A95D-51E68153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36D-75D0-4A05-A1CD-55B8CF5C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08B-CA4D-4D23-AA8F-E3212423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C8C-E572-4D82-AB1D-D8E952AB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E40DF-828D-426C-B863-81C7C18426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