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29292"/>
        <c:axId val="11681370"/>
      </c:barChart>
      <c:catAx>
        <c:axId val="10029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81370"/>
        <c:crosses val="autoZero"/>
        <c:auto val="1"/>
        <c:lblAlgn val="ctr"/>
        <c:lblOffset val="100"/>
        <c:noMultiLvlLbl val="0"/>
      </c:catAx>
      <c:valAx>
        <c:axId val="11681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29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5A8-DCEF-4CB7-8644-DDBC6FE5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83C-941F-4DBF-BC5D-0414747E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20B-D210-46BD-939E-C4CC34DA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97A-2DE4-4161-AF94-A6B4E8FD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D76-FB35-4A43-BCD0-E6291E41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E5A-BCC0-4840-A077-5D786C50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86B-5744-40B9-BA5C-915FBAD9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43E-7BB5-4537-84CD-4B624DFB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FB3-8065-4094-B86B-86FD98B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997-E7D2-4724-9C80-FB21F75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758-FBB0-4EF1-B513-A4FAD049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C41-079A-48DA-8132-D2DCF2F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D9CBB-B9D0-4D7C-B137-6D9A718C4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