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40686"/>
        <c:axId val="21490718"/>
      </c:barChart>
      <c:catAx>
        <c:axId val="55540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0718"/>
        <c:crosses val="autoZero"/>
        <c:auto val="1"/>
        <c:lblAlgn val="ctr"/>
        <c:lblOffset val="100"/>
        <c:noMultiLvlLbl val="0"/>
      </c:catAx>
      <c:valAx>
        <c:axId val="21490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40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88F-4CD9-4280-8A2D-D113A767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0AF-9CA6-49D9-9A98-F2982D86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C67-7180-44EF-BCBB-CAE9E653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AEF-B2B3-4791-B85D-5646A8B1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B71-4B0F-4C8B-8E30-5E62A917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663-9CF3-4830-A71B-226951BB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0CE-AE9C-4CB9-B589-6E5579CA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371-4215-4E86-88A8-5B081C6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E18-DDC9-497A-BF70-D81F8D10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922-C5AA-4B1A-A625-16D75A2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8B7-544B-4670-8334-871917F6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1E9-7FF1-48C4-89F7-FE563EF8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5FBF0-8B44-4F44-9B0A-F04374D4A8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