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76964"/>
        <c:axId val="68421031"/>
      </c:barChart>
      <c:catAx>
        <c:axId val="35376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21031"/>
        <c:crosses val="autoZero"/>
        <c:auto val="1"/>
        <c:lblAlgn val="ctr"/>
        <c:lblOffset val="100"/>
        <c:noMultiLvlLbl val="0"/>
      </c:catAx>
      <c:valAx>
        <c:axId val="68421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76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002-665E-4E66-A894-2B24B1ED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52D-6319-42A2-A47C-AC88B97B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99B-37D2-4B1F-A09E-21AE175E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ED5-E3FF-4FA9-A8FE-EBE666D2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ED3-9E2C-474E-BAB9-742F14A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2EE-A6F2-453C-B75B-748A36A3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090-D7CA-49B7-92CF-D35C02E5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439-B342-46BA-A00E-DA385A19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7D9-E4F2-48F3-A89A-4BD10389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5ED-132E-4580-ACF4-49F6046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69A-2935-4C9A-907B-1600C577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3ED-4D41-4C10-B298-10A4DF5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58829-2BD1-49A1-A454-8BB44CDC42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