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50983"/>
        <c:axId val="79716360"/>
      </c:barChart>
      <c:catAx>
        <c:axId val="64950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16360"/>
        <c:crosses val="autoZero"/>
        <c:auto val="1"/>
        <c:lblAlgn val="ctr"/>
        <c:lblOffset val="100"/>
        <c:noMultiLvlLbl val="0"/>
      </c:catAx>
      <c:valAx>
        <c:axId val="79716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50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010-826F-4D88-BD93-7685E05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1CE-7802-4E24-B410-86005CB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D6E-7C57-4E26-A2F0-FB19B720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83D-1283-48B1-B992-3C16FDDB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E7C-BF92-4187-884D-F14A77A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796-CCE7-41DE-B5B3-162B9F5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143-08F4-4CBA-80C8-CA859178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F13-BE3D-4AD4-835D-F5C1DB0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A90-E988-4E66-9462-37F03C89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131-3120-4D45-9766-16A2A0E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F02-70FC-48FA-B4B8-A19038A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823-8C34-4E9D-BE3A-95EDD58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E05AA-C640-4C63-97F2-7E4B58F32B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