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58891"/>
        <c:axId val="39145211"/>
      </c:barChart>
      <c:catAx>
        <c:axId val="225588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45211"/>
        <c:crosses val="autoZero"/>
        <c:auto val="1"/>
        <c:lblAlgn val="ctr"/>
        <c:lblOffset val="100"/>
        <c:noMultiLvlLbl val="0"/>
      </c:catAx>
      <c:valAx>
        <c:axId val="39145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588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A17-3EFE-48E7-8D6A-7DDF5AC10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8490-3570-4AA5-9D04-711D7717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1B70-B326-4377-9F6B-2AADC045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DCFE-5712-44B6-9737-8121F621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5AB3-D18C-4C2F-A03F-8CE57939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A55-6D05-4CAE-BFF2-1420A954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F88-3A2D-436C-8B94-5189BD5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913-BC85-425B-8C7D-03515B3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F310-5F86-4742-BA2B-6B50B061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641A-2728-4422-8CA8-37DA6180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F7C-FDF3-48FE-B9AE-1337707F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056-0AFB-4F4A-9873-011941DF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E2912B-4A36-43D0-9C97-A7AD64C93F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