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50749"/>
        <c:axId val="78717031"/>
      </c:barChart>
      <c:catAx>
        <c:axId val="49450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7031"/>
        <c:crosses val="autoZero"/>
        <c:auto val="1"/>
        <c:lblAlgn val="ctr"/>
        <c:lblOffset val="100"/>
        <c:noMultiLvlLbl val="0"/>
      </c:catAx>
      <c:valAx>
        <c:axId val="78717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50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7CD-4C89-4780-8289-5DE5D732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5BA-262F-4938-8B78-CE0CF681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68E-D9B2-40F5-894C-0A28DB1F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682-451B-45A1-8BE0-D9068816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3F9-2874-47AD-8937-4B2338C4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4A5-413B-4813-8ED4-C237AF79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9E0-E14F-4584-A596-7BCE66FF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513-7379-4266-989E-62049A61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165-0430-4FD6-AB85-E4CB5C21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B4C-4B47-4AF9-AAEA-5DC60BD9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358-FEE4-474F-8524-884ACC8F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E27-79CC-4956-91A0-109BEB6D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E554C-A14E-4A6E-A3B4-E29984D03A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