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442575"/>
        <c:axId val="86447292"/>
      </c:barChart>
      <c:catAx>
        <c:axId val="8944257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447292"/>
        <c:crosses val="autoZero"/>
        <c:auto val="1"/>
        <c:lblAlgn val="ctr"/>
        <c:lblOffset val="100"/>
        <c:noMultiLvlLbl val="0"/>
      </c:catAx>
      <c:valAx>
        <c:axId val="864472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44257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BA1CA-055E-4BC3-B507-AA532C3999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CB6AF-3F6B-4E97-AA69-67A66552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4489E-B689-41E7-B712-704E120DBF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A93C41-E226-4BA1-B03F-8443C80925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B5271-C1D1-4F3D-BFA7-D637C58AEE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04A2-DC53-4D6D-8938-373EC5F097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C4B56-0019-43A8-ADD8-269D243CC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868C0-4334-4710-A664-A9D320BAD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3D826-DB26-47B0-ADD0-053893677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F0528-7028-4E42-9E41-58E743CF5C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3D1F2-6258-46CC-BA1A-D7A54D70A0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97DCC-8335-4727-B1C7-3C7CAD906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0A8C17F-84EF-4DA2-88AA-A4E699D2EA0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