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799401"/>
        <c:axId val="10944427"/>
      </c:barChart>
      <c:catAx>
        <c:axId val="527994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944427"/>
        <c:crosses val="autoZero"/>
        <c:auto val="1"/>
        <c:lblAlgn val="ctr"/>
        <c:lblOffset val="100"/>
        <c:noMultiLvlLbl val="0"/>
      </c:catAx>
      <c:valAx>
        <c:axId val="109444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7994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EEC6-942B-4309-A67B-10808C3B2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A1B5-6C3D-417B-AF39-AB6A962CA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E9C8-877A-4A29-BD8C-E5C11D764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C3B8-BF03-4968-AFA0-51531435B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FF25-826F-4D1E-BC2A-ECF5C687D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5F91-C4FF-4057-961C-EFC0304AF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02B3-E013-456E-B0CA-F2916DF6F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CBB0-085D-4C0C-9AC7-74DD53A66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A661-54F9-4DFD-A6CA-5EEEFAF2E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E98E-AE81-431D-BD34-95D0793D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C756-6C41-4A78-8AD0-F8A7DBFAB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2FEA-8177-4C93-84B0-29E92396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D5F992-5283-4135-9B34-CB6C154A9AD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