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5902"/>
        <c:axId val="85017632"/>
      </c:barChart>
      <c:catAx>
        <c:axId val="4175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7632"/>
        <c:crosses val="autoZero"/>
        <c:auto val="1"/>
        <c:lblAlgn val="ctr"/>
        <c:lblOffset val="100"/>
        <c:noMultiLvlLbl val="0"/>
      </c:catAx>
      <c:valAx>
        <c:axId val="85017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5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426-4768-4803-958C-F3F7826F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115-B824-41E9-ABB4-ED11449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919-9D0D-4650-B195-F63EFB53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211-49A6-4C36-AE15-44E8BE21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F4C-0862-4A29-BA14-2E28A4F1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3A5-740D-48CB-BC77-972ED88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6CF-E6F3-465A-859F-5DB9B961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D96-1A2A-428C-BEB8-341E429C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B4F-EFF7-4B3B-8A9A-80A6CE8D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245-3F26-49FD-A2AB-0F7A002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B7C-86FB-4720-AD00-6F707EC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83C-F464-47E4-9CB7-E15845F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C4EBF-54EB-4682-A920-B58E4DE37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