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22728"/>
        <c:axId val="1194671"/>
      </c:barChart>
      <c:catAx>
        <c:axId val="30422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4671"/>
        <c:crosses val="autoZero"/>
        <c:auto val="1"/>
        <c:lblAlgn val="ctr"/>
        <c:lblOffset val="100"/>
        <c:noMultiLvlLbl val="0"/>
      </c:catAx>
      <c:valAx>
        <c:axId val="1194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22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B04-ED2B-411A-B76F-4EAD3061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4CD-2645-4F64-88F2-709D547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9AE-FAE5-4330-BF4A-2101D435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AC0-A222-4231-90C9-51FE1BC0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124-EB2B-44C5-97DF-DF7D97E5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027-2C7A-47E0-8501-63EEEFC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844-A8DB-4D94-8A22-8177D116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5C5-D4E2-4840-827F-05392C17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214-11F3-49AE-AC07-1ED9638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7D6-D0DA-45E0-974A-1058960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8C2-0156-46CC-8509-40FD348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696-3BF7-4686-B95B-77BE378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F2460-1D29-474A-A9C3-6B71FB4163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