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33752"/>
        <c:axId val="70233931"/>
      </c:barChart>
      <c:catAx>
        <c:axId val="54033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33931"/>
        <c:crosses val="autoZero"/>
        <c:auto val="1"/>
        <c:lblAlgn val="ctr"/>
        <c:lblOffset val="100"/>
        <c:noMultiLvlLbl val="0"/>
      </c:catAx>
      <c:valAx>
        <c:axId val="70233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33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D13-0F7A-485B-B72F-026B5265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3B8-C5EF-4C2A-B2A8-4810E83E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D32-09FD-4A7D-AEB7-D0D8E5B0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CC2-CCBA-437F-9D69-EFC0F0F4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24D-CEAF-4947-A062-0D885DAB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26A-CFF5-4F94-B9AC-1EA0EDA4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F0E-D10D-464A-A554-CC162E79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6AC-D8B6-44DE-B501-C568D3C5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E9F-A392-499E-9B03-185C0773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B4D-83B8-48C0-B5DB-3F8AB755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A34-FD2F-4360-9169-9491A0E6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9A7-AFE7-41B6-B1A0-21C1AB1A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81B64-00EB-4169-A091-C68FF35A47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