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30780"/>
        <c:axId val="53423309"/>
      </c:barChart>
      <c:catAx>
        <c:axId val="57630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23309"/>
        <c:crosses val="autoZero"/>
        <c:auto val="1"/>
        <c:lblAlgn val="ctr"/>
        <c:lblOffset val="100"/>
        <c:noMultiLvlLbl val="0"/>
      </c:catAx>
      <c:valAx>
        <c:axId val="53423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30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178-687D-481F-A554-52E8A25D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396-72A6-4924-9119-4C60852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F42-E317-4568-9524-B39EA8B4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221-580A-4673-A3B3-B898B02D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740-D2D5-4F92-9DCF-7AD720CB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B9E-5D82-4CB3-9EB8-1AF43343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694-794A-49CC-B1FD-A08088D0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056-0A95-47FF-AF61-7C488722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151-1B83-4ED5-8AB6-E366FCEF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F35-6E69-49CC-941A-01D9E98D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BAB-045B-4BE7-AA2C-E8C0AC6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BC6-66B4-4C56-9B3C-93F8E4A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F6D20-2385-4D85-9F1C-4598CA442F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