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02527"/>
        <c:axId val="49450533"/>
      </c:barChart>
      <c:catAx>
        <c:axId val="25102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0533"/>
        <c:crosses val="autoZero"/>
        <c:auto val="1"/>
        <c:lblAlgn val="ctr"/>
        <c:lblOffset val="100"/>
        <c:noMultiLvlLbl val="0"/>
      </c:catAx>
      <c:valAx>
        <c:axId val="49450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2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B39-1492-4F19-9986-CBE80512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88B-4F8E-4A97-8616-B15A862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8B1-0CB7-4A6B-A6F5-EF4296FA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710-503F-4C5D-888D-2D390D91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018-FC5D-431B-97D6-235C5F8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AF7-455E-4FBE-8DE0-2A1D1B9B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10E-4559-47A9-B86D-02BDC0C3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7A5-A4BA-46B4-9227-037E425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FA0-98C7-419A-8EEE-746DFDE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FFB-9E6D-46A6-9281-7BE5100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A36-DD2C-4518-8B89-6FD3B03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879-8FA5-4CB5-AACD-C7E9816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920C2-797F-4D69-8658-92293085F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