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66489"/>
        <c:axId val="32140562"/>
      </c:barChart>
      <c:catAx>
        <c:axId val="12466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40562"/>
        <c:crosses val="autoZero"/>
        <c:auto val="1"/>
        <c:lblAlgn val="ctr"/>
        <c:lblOffset val="100"/>
        <c:noMultiLvlLbl val="0"/>
      </c:catAx>
      <c:valAx>
        <c:axId val="32140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66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A64-E0E0-4605-A364-48553BED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2AE-064A-41B0-8766-1118D9F2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C4A-8E89-44AF-B5FD-F43571C8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4B67-AC81-4813-AB86-6FFB2015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32B-5E7F-4C0B-B562-AB0BCCA2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1B6-7BB4-4CAE-A9AB-0C900A13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DA7-F76E-43E5-B784-91E07A68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E60-C322-4931-BBE4-9198CB51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B09-F112-40F5-8EB1-BA2F1B16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D74-0F41-425B-A170-417F0F88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18D-7877-4B50-9A39-04D24C11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59F-A701-4494-9105-4C8B2103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E57CE-860F-4873-8F23-9EAE98ECD6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