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71039"/>
        <c:axId val="62137703"/>
      </c:barChart>
      <c:catAx>
        <c:axId val="12771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37703"/>
        <c:crosses val="autoZero"/>
        <c:auto val="1"/>
        <c:lblAlgn val="ctr"/>
        <c:lblOffset val="100"/>
        <c:noMultiLvlLbl val="0"/>
      </c:catAx>
      <c:valAx>
        <c:axId val="62137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1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5ED-D579-4AAA-8744-558B902B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9F1-FC62-42A0-9635-F5D4E6FD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08E-379E-404F-BAFF-ECFFD7CE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AF2-B965-4D38-A194-F13F57BE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9FA-8556-45B5-9C12-98057908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CAD-9C4C-4F2B-A335-F56EECCD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E06-6B40-46D6-B04B-59EEF38F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E83-EBDC-4E39-A37A-B90D262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173-9B55-44D3-8CC6-08759693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693-2133-4786-82EC-5C5528B6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D87-D0F4-4B88-91FB-9A9A9A0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77C-EFC6-4EB8-B510-DA12F6E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C8F32-6832-424B-B1FA-A94CE5F5C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