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2050"/>
        <c:axId val="85675516"/>
      </c:barChart>
      <c:catAx>
        <c:axId val="7982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75516"/>
        <c:crosses val="autoZero"/>
        <c:auto val="1"/>
        <c:lblAlgn val="ctr"/>
        <c:lblOffset val="100"/>
        <c:noMultiLvlLbl val="0"/>
      </c:catAx>
      <c:valAx>
        <c:axId val="85675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2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D90-F46F-4720-BAA8-7B6E74E3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9A9-A78E-4D2D-AB9F-7089A670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C30-4F02-452D-864E-1057A766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3D3-0A11-4BC2-8A61-0B7EE812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005-B12D-4A3A-A402-BA671E9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39E-303F-4CA8-B3CD-A826275E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01C-C637-4362-8DA8-83E2EBCD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DFC-1077-4F5B-96CB-BE0CE65E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42E-D8B9-4E53-92E9-8AAD547D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5B1-CB72-4CF4-8944-C6B46071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E5B-2B4B-4432-A4A1-1983C266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215-CD77-4657-BE8B-BBA0D802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726FC-59BD-4679-B70A-2C4FF4CC0E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