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03044"/>
        <c:axId val="659601"/>
      </c:barChart>
      <c:catAx>
        <c:axId val="14003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01"/>
        <c:crosses val="autoZero"/>
        <c:auto val="1"/>
        <c:lblAlgn val="ctr"/>
        <c:lblOffset val="100"/>
        <c:noMultiLvlLbl val="0"/>
      </c:catAx>
      <c:valAx>
        <c:axId val="659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03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EF6-5C34-49F9-B86A-866C7868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CCC-10D8-4B5E-8D04-2744461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0F2-8843-440E-9F1A-737CAA54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067-51B4-4F3A-9120-A24752F1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9BB-1306-46CA-9C74-0D59437F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5B1-7984-4636-A599-FE6B618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827-321C-4D22-8AC2-B0F41A6C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E61-6122-43EB-857F-CCF51DB9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335-0972-4841-AE02-B61C190A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C9E-0C6F-4BF0-84D9-3F3A022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372-1AAA-4341-9A74-CB931134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2DB-1300-4CEE-95C7-A6F318AB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659FD-3BAD-4175-B0EF-ED407C5F0C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