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0038"/>
        <c:axId val="97786623"/>
      </c:barChart>
      <c:catAx>
        <c:axId val="1650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86623"/>
        <c:crosses val="autoZero"/>
        <c:auto val="1"/>
        <c:lblAlgn val="ctr"/>
        <c:lblOffset val="100"/>
        <c:noMultiLvlLbl val="0"/>
      </c:catAx>
      <c:valAx>
        <c:axId val="97786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0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166-66D1-451D-8B9D-2DDAF0C5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ED6-C59F-413A-9DCF-333EE06A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FB6-435E-4F71-8F91-94491DF7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726-0241-443B-8EAF-046C2DE3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EC6-062D-4AC9-A486-8CCF3DFD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667-A890-4BA3-88C6-214FCA1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D92-EC38-4572-B2DE-EF0B8FB2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7DB-A0E9-418A-AA51-33607FB3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54C-BD5F-4F43-BB29-208ECC67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7FC-3962-4FB9-8DE6-814A14EF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C06-6198-43BA-BA4A-7BAD536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D64-6E62-4053-AF2C-950C46BC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4A70D-96C5-4664-A05C-CF49E21786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