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73277"/>
        <c:axId val="69029118"/>
      </c:barChart>
      <c:catAx>
        <c:axId val="22873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29118"/>
        <c:crosses val="autoZero"/>
        <c:auto val="1"/>
        <c:lblAlgn val="ctr"/>
        <c:lblOffset val="100"/>
        <c:noMultiLvlLbl val="0"/>
      </c:catAx>
      <c:valAx>
        <c:axId val="69029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73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553-43B3-479C-B962-CA2C966B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D61-8B54-46DD-AE6B-090133A2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F18-5DF4-4789-80C2-8713BB62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702-2C44-4DFB-9FF0-CE54B202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4B2-DF34-40B4-B150-A1895818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A0C-2D47-4B88-B909-3C5454FA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836-762D-4D2A-BE52-4295BD4D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F7D-769B-446A-855E-AA91911D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BA5-3BC8-49C0-AEA2-91F33105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54C-B434-403A-BD2C-E0ED551E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00C-E8F2-4B4D-A6F8-CB0279CC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816-2224-472B-9E10-A7DEC2F5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B579A-08A6-4895-A7A4-C2C834A56B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